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025-5F8B-4722-8455-D11B29A9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FB0-AA9B-4AB2-ADE2-BF93C487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73B-12A8-4ADE-BDC0-B359C1A6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64F-CBF5-41A7-BE87-517F3921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A04-9905-4724-AB57-8B0C87D8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B39-542C-46E6-A4D7-A7B1545A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B62-A455-4823-B281-BAA52BEE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FF1-7AF1-4B7E-8D06-368ACA85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F3D-DB56-418E-9910-1729166F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0A7-8785-42BF-85EC-5A9EB33F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DEF-62BC-4E6C-8DF7-5578A75D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58D-B809-4AC9-B4D5-C42A01F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8F3E-C97B-43F4-88AB-E39E5A958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7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5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el examen del capitulo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-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ersonajes latinos famos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es famoso Sammy So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es considerado una persona muy bu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es Sergio Garc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 llaman “el Niño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-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Vocabul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1905120" cy="86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00600" y="990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1676520"/>
            <a:ext cx="1600200" cy="156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6320" y="4419720"/>
            <a:ext cx="2057400" cy="162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09680" y="4572000"/>
            <a:ext cx="1492200" cy="160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886200" y="449568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943600" y="4648320"/>
            <a:ext cx="1244520" cy="1466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391520" y="4191120"/>
            <a:ext cx="1531800" cy="1638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00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4456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056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40320" y="35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" y="4343400"/>
            <a:ext cx="478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04560" y="4648320"/>
            <a:ext cx="609480" cy="3808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35160" y="6172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30440" y="5958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1636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15120" y="5729400"/>
            <a:ext cx="15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2636640"/>
            <a:ext cx="90676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I- </a:t>
            </a:r>
            <a:r>
              <a:rPr b="1" lang="es-ES_tradnl" sz="3200" spc="-1" strike="noStrike" u="sng">
                <a:solidFill>
                  <a:srgbClr val="008000"/>
                </a:solidFill>
                <a:uFillTx/>
                <a:latin typeface="Arial"/>
              </a:rPr>
              <a:t>Si o 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un partido de futbol dos equipos ju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lase es interesante porque me abu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espectador lanza el balón y mete un g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y un pícher, me gusta jugar balonc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portero bloquea el balón, no entra en la porter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30976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2314440" cy="1971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781680" y="277920"/>
            <a:ext cx="1981440" cy="1436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40" y="1523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09120" y="1828440"/>
            <a:ext cx="762120" cy="152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2360" y="5335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981080" y="990720"/>
            <a:ext cx="83844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280" y="18288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429000" y="1828800"/>
            <a:ext cx="838080" cy="3049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133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129528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7160" y="18288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320" y="759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II- </a:t>
            </a:r>
            <a:r>
              <a:rPr b="1" lang="es-ES_tradnl" sz="3200" spc="-1" strike="noStrike" u="sng">
                <a:solidFill>
                  <a:srgbClr val="008000"/>
                </a:solidFill>
                <a:uFillTx/>
                <a:latin typeface="Arial"/>
              </a:rPr>
              <a:t>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e with the correct form of the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na ____________ a jugar a las dos. (empe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 en el equipo de futbol. (j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_ mirar el juego de baloncesto. (prefer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equipos no _________ perder. (que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, un equipo siempre ________. (pe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 a casa para mirar el partido en la tele. (vol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para el EXAMEN del Capitulo 1 el PROXIMO VI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book: p. 2-29; p.34-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fu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, O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eis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aloncesto,basque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deportes en el mundo hisp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pa Mun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nat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0:48:52Z</dcterms:created>
  <dc:creator>Helen Zumaeta</dc:creator>
  <dc:description/>
  <dc:language>en-US</dc:language>
  <cp:lastModifiedBy>Helen Zumaeta</cp:lastModifiedBy>
  <dcterms:modified xsi:type="dcterms:W3CDTF">2012-10-25T16:48:44Z</dcterms:modified>
  <cp:revision>12</cp:revision>
  <dc:subject/>
  <dc:title>Me llamo _______ Clase 7 IM La fecha es el 9 de marzo del 2011</dc:title>
</cp:coreProperties>
</file>